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A00BC-1355-456D-9465-66D37E7E2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EC687-EBC7-46BD-9DF4-E3A576E2A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4AF6A-BCD4-4C1B-B811-888AF76E3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C7997-EF4A-4C4D-8BF8-E6BF42C55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C9024-EEEC-4A74-907E-AB4B03346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BFDFA-9D40-4E5E-9E3E-45A1BCF15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A4F57-8663-4321-B155-2FA5D4214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FDE5B-6898-4066-84F7-7684290E7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F4D73-62AA-4A3B-8938-49F4ABCE9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3CF8E-D7F3-4EE0-95BC-538DD1A58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21B23-B3F6-4BA0-AB43-DB813FC02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DC6D6-E202-4057-9EA2-F5CCD7784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3C464-9672-4696-94BE-89D3D0C408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ychoanalytic Criticism</a:t>
            </a:r>
            <a:endParaRPr b="0" lang="en-US" sz="4400" spc="-1" strike="noStrike">
              <a:solidFill>
                <a:srgbClr val="000000"/>
              </a:solidFill>
              <a:latin typeface="Arial"/>
            </a:endParaRPr>
          </a:p>
        </p:txBody>
      </p:sp>
      <p:pic>
        <p:nvPicPr>
          <p:cNvPr id="42" name="" descr=""/>
          <p:cNvPicPr/>
          <p:nvPr/>
        </p:nvPicPr>
        <p:blipFill>
          <a:blip r:embed="rId1"/>
          <a:stretch/>
        </p:blipFill>
        <p:spPr>
          <a:xfrm>
            <a:off x="2971800" y="2057400"/>
            <a:ext cx="3200400" cy="419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Read a Text using Psychoanalysis</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ob of the psychoanalytical critic is to see which concepts are operating in the text that will yield a meaningful psychoanalytic interpretation.  For examp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ight focus on the work’s representation of oedipal dynamic of family dynamics in gener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ight focus on what work tells us about human beings’ psychological relationship to death or sexual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ight focus on how the narrator’s unconscious problems keep appearing over the course of the 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the characters in the tex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eat way to practice psychoanalytical criticism is to analyze the behavior of the characters in the 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the characters’ behavior represents the psychological experience of the author or of human beings in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ood example is the psychoanalytical reading of </a:t>
            </a:r>
            <a:r>
              <a:rPr b="0" i="1" lang="en-US" sz="3200" spc="-1" strike="noStrike">
                <a:solidFill>
                  <a:srgbClr val="000000"/>
                </a:solidFill>
                <a:latin typeface="Arial"/>
              </a:rPr>
              <a:t>Death of a Salesman </a:t>
            </a:r>
            <a:r>
              <a:rPr b="0" lang="en-US" sz="3200" spc="-1" strike="noStrike">
                <a:solidFill>
                  <a:srgbClr val="000000"/>
                </a:solidFill>
                <a:latin typeface="Arial"/>
              </a:rPr>
              <a:t>(pg. 3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important thing to keep in mind:</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ome extent, all creative works are a product of the author’s conscious and/or unconscious mi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human production that involves images, that seems to have narrative content, or relates for the psychology of those who produce or use it can be interpreted using psychoanalytic too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Questions Psychoanalytic Critics Ask about Literary Texts</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unconscious motives are operating in the main characters?  What is being repressed?  Remember that the unconscious mind consists of repressed wounds, fears, unresolved conflicts, and guilty desi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possible to relate a character’s patterns of adult behavior to early experiences in the family (as represented in the story)?  What do these behavior patterns and family dynamics reve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Questions Psychoanalytic Critics Ask about Literary Text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characters’ behavior, narrative events, and/or images be explained in terms of regression, projection, fear of or fascination with death or sexu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familiar with the works of Emily Dickinson and Edgar Allen Poe, you can have a field day with this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know you’re sick of this book…</a:t>
            </a:r>
            <a:endParaRPr b="0" lang="en-US" sz="4400" spc="-1" strike="noStrike">
              <a:solidFill>
                <a:srgbClr val="000000"/>
              </a:solidFill>
              <a:latin typeface="Arial"/>
            </a:endParaRPr>
          </a:p>
        </p:txBody>
      </p:sp>
      <p:pic>
        <p:nvPicPr>
          <p:cNvPr id="70" name="" descr=""/>
          <p:cNvPicPr/>
          <p:nvPr/>
        </p:nvPicPr>
        <p:blipFill>
          <a:blip r:embed="rId1"/>
          <a:stretch/>
        </p:blipFill>
        <p:spPr>
          <a:xfrm>
            <a:off x="762120" y="1447920"/>
            <a:ext cx="3581280" cy="4876560"/>
          </a:xfrm>
          <a:prstGeom prst="rect">
            <a:avLst/>
          </a:prstGeom>
          <a:ln w="0">
            <a:noFill/>
          </a:ln>
        </p:spPr>
      </p:pic>
      <p:sp>
        <p:nvSpPr>
          <p:cNvPr id="71" name=""/>
          <p:cNvSpPr/>
          <p:nvPr/>
        </p:nvSpPr>
        <p:spPr>
          <a:xfrm>
            <a:off x="4648320" y="1523880"/>
            <a:ext cx="39621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with the recurrent images of an ap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apple symboliz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a girl holding the ap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is say about the author’s repressed desi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the apple is sexu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the image of an apple have any religious mea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Questions Psychoanalytic Critics Ask about Literary Texts</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can we view a literary work as a dream?  How might recurrent or striking dream symbols reveal the ways in which the narrator/author is projecting his unconscious desires, fears, wounds, or unresolved conflicts onto other characters or the events portray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for symbols relevant to death and sexuality (yonic and phallic symbo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Questions Psychoanalytic Critics Ask about Literary Texts</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ight a given interpretation of a literary work suggest about the psychological motives of the reader?  For example, if a group of critics see Willy Loman as a devoted family man while underplaying his contribution to the family dysfunction, what might that say about the repressive tendencies of that group of critics?  Maybe acknowledging Willy Loman’s faults as a bad father and husband forces the reader to acknowledge similar faults in his/her own fa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ationale of Psychoanalytical Literary Criticism</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sychoanalysis can help us better understand human behavior, then it must certainly be able to help us understand literary texts, which are about human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analytical Criticism shows how human behavior is relevant to our experience of lit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ud’s Theories: The Origins of the Unconsciou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of psychoanalysis is to help us resolve our psychological problems (called disorders or dysfunc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analysts focus on correcting patterns of behavior that are destruc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Freud’s most radical insights was the notion that human beings are motivated by unconscious desires, fears, needs, and confli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Unconscious Mind?</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conscious is the storehouse of those painful experiences and emotions, wounds, fears, guilty desires, and unresolved conflicts we do not want to know abou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develop our unconscious mind at a very young age through the act of repress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sion is the expunging of the conscious mind of all our unhappy psychological ev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unhappy memories do not disappear in the unconscious mind; rather, they exist as a dynamic entity that influences our behavi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mily Conflict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edipus Complex: young boys between the ages of 3-6 develop a sexual attachment to their mothers.  The young boy competes with his father for his mother’s attention until he passes through the castration complex, which is when he abandons his desire for his mother out of fear of castration by his fath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ctra Complex: young girls compete with their mothers for the affection of their fath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ud believed all children must successfully pass through these stages in order to develop normally.  Freud also believed that a child’s moral sensibility and conscious appear for the first time during this st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eam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defense mechanisms do not operate in the same way while we are asleep as they do when we are awake.  This is why psychoanalysts are so interested in dream analys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are asleep, the unconscious mind is free to express itself and it does so in the form of drea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am displacement: when we use a “safe” person, event, or object as a “stand-in” to represent a more threatening person, event, or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dreaming about a child almost always reveals something about our feelings toward ourselves, toward the child that is still within us and that is probably still wounded in some wa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eaning of Death</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th is a difficult subject to analyze, often because we have a tendency to treat death as an abstra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reating death as an abstraction, we can theorize about it without feeling its force too intimately because its force is much too frighte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ud theorized that death is a biological drive which he referred to as the “death dri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ath drive” theory accounted for the alarming degree of self-destructive behavior Freud observed in individu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fear of death is closely tied to our fear of being alone, our fear of abandonment, and our fear of intima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eaning of Sexualit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xual behavior is a product of our culture because our culture sets down the rules of proper sexual conduct and the definitions of normal/abnormal sexual behavi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ety’s rules and definitions concerning sexuality form a large part of our superego.  The word superego implies feeling guilty (even though some of the time we shouldn’t) because we are socially programmed to feel guilty when we break a social value (pre-marital sex, for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eaning of Sexuality</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erego is in direct opposition to the id, the psychological reservoir of our instincts and libido.  The id is devoted to gratifying all our prohibited desires (sex, power, amusement, food, et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 id contains desires regulated or forbidden by social convention, the superego determines which desires the id will contai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go plays referee between the id and the superego; it is the product of the conflict we feel between what we desire and what society tells us we cannot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11:58:16Z</dcterms:created>
  <dc:creator>TEACHER</dc:creator>
  <dc:description/>
  <dc:language>en-US</dc:language>
  <cp:lastModifiedBy>TEACHER</cp:lastModifiedBy>
  <dcterms:modified xsi:type="dcterms:W3CDTF">2008-10-17T13:16:23Z</dcterms:modified>
  <cp:revision>6</cp:revision>
  <dc:subject/>
  <dc:title>Psychoanalytic Criticism</dc:title>
</cp:coreProperties>
</file>